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dt" idx="1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ftr" idx="1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 type="sldNum" idx="1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59F5-636E-49B3-91A3-3DD32B3726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6FCD-10D8-499F-B3DA-6D0B4B5B9E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3743-A488-4B81-B464-0F613AD611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6E88-8613-4729-B43B-400087E18B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5EC1-2B49-4FB4-82EC-2E9794157D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3C13-ACC7-4D76-98F8-026F685457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EF27-10C8-450A-9043-103D82D1A3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1CBF-A638-4F3E-9911-4EC6A8FA20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18F6-8892-4049-A800-853B1A2E3B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5F22-B257-4EB1-A00D-4F2FE6BD10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6FC6-A8CC-4103-8327-BE6D9571E3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BBBE-0006-4C3A-AE7F-948A08D333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11E2-30DD-4080-855C-8AC52D6E31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C6E5-157F-43DC-8D35-05A6E99DC6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Presentation Title - </a:t>
            </a:r>
            <a:fld id="{74C55028-AB31-47B3-B49B-73DA822A506D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8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417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ftr" idx="9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3B99B481-04A0-4F2D-AEC6-C6A87A6EC17F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7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0"/>
          <p:cNvGraphicFramePr/>
          <p:nvPr/>
        </p:nvGraphicFramePr>
        <p:xfrm>
          <a:off x="0" y="0"/>
          <a:ext cx="118908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0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18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1" name="Picture 7" descr="0804041_19_DSS.tif"/>
          <p:cNvPicPr/>
          <p:nvPr/>
        </p:nvPicPr>
        <p:blipFill>
          <a:blip r:embed="rId5"/>
          <a:srcRect l="26287" t="37486" r="43681" b="48775"/>
          <a:stretch/>
        </p:blipFill>
        <p:spPr>
          <a:xfrm>
            <a:off x="0" y="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462" name="TextBox 8"/>
          <p:cNvSpPr/>
          <p:nvPr/>
        </p:nvSpPr>
        <p:spPr>
          <a:xfrm>
            <a:off x="0" y="-111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&amp; Storag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ftr" idx="10"/>
          </p:nvPr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Presentation title - </a:t>
            </a:r>
            <a:fld id="{DFA6F8EB-F8E7-405E-8469-5CA8BB1C4F9A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E4F5E61A-EB6B-4CDE-AF18-8180BC210476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20"/>
          <p:cNvGraphicFramePr/>
          <p:nvPr/>
        </p:nvGraphicFramePr>
        <p:xfrm>
          <a:off x="0" y="0"/>
          <a:ext cx="118908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18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Picture 7" descr="0804041_19_DSS.tif"/>
          <p:cNvPicPr/>
          <p:nvPr/>
        </p:nvPicPr>
        <p:blipFill>
          <a:blip r:embed="rId5"/>
          <a:srcRect l="26287" t="37486" r="43681" b="48775"/>
          <a:stretch/>
        </p:blipFill>
        <p:spPr>
          <a:xfrm>
            <a:off x="0" y="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8"/>
          <p:cNvSpPr/>
          <p:nvPr/>
        </p:nvSpPr>
        <p:spPr>
          <a:xfrm>
            <a:off x="0" y="-111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&amp; Storag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3"/>
          <p:cNvGrpSpPr/>
          <p:nvPr/>
        </p:nvGrpSpPr>
        <p:grpSpPr>
          <a:xfrm>
            <a:off x="1143000" y="0"/>
            <a:ext cx="8001000" cy="849240"/>
            <a:chOff x="1143000" y="0"/>
            <a:chExt cx="8001000" cy="849240"/>
          </a:xfrm>
        </p:grpSpPr>
        <p:pic>
          <p:nvPicPr>
            <p:cNvPr id="91" name="Picture 20" descr="banner-ITonly"/>
            <p:cNvPicPr/>
            <p:nvPr/>
          </p:nvPicPr>
          <p:blipFill>
            <a:blip r:embed="rId2"/>
            <a:stretch/>
          </p:blipFill>
          <p:spPr>
            <a:xfrm>
              <a:off x="1143000" y="0"/>
              <a:ext cx="80010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itle 1"/>
            <p:cNvSpPr/>
            <p:nvPr/>
          </p:nvSpPr>
          <p:spPr>
            <a:xfrm>
              <a:off x="1295280" y="0"/>
              <a:ext cx="55627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Data &amp; Storage Serv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Picture 20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3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7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96" name="Picture 18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Box 19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141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3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65A01B5B-ACF4-4454-B0A3-B66AEBCA35A6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187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ftr" idx="4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7E52CC2B-4DF4-445F-856A-9876584F0682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233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ftr" idx="5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E532D938-E260-4BE1-9832-47E0ECA7D7B1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279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6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9103AE18-45D8-4FD6-8C22-B9553ABB1ADF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325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7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3AE0F637-3F4F-4458-A77D-EF0BE2BF255A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371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8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9B32CEAC-E9E0-48E7-8545-2CD3CCFC8ED3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95280" y="11430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861aa"/>
                </a:solidFill>
                <a:latin typeface="Arial"/>
              </a:rPr>
              <a:t>CERN / CASTOR Tape Archive (CTA)</a:t>
            </a:r>
            <a:br>
              <a:rPr sz="3600"/>
            </a:br>
            <a:r>
              <a:rPr b="1" lang="en-US" sz="3600" spc="-1" strike="noStrike">
                <a:solidFill>
                  <a:srgbClr val="3861aa"/>
                </a:solidFill>
                <a:latin typeface="Arial"/>
              </a:rPr>
              <a:t>Motivations and contex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21337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61aa"/>
                </a:solidFill>
                <a:latin typeface="Arial"/>
              </a:rPr>
              <a:t>2015 Program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rve sl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erve slides beyond this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23E4675D-6803-4AE3-BFBA-67DB37EA3EC6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TOR tape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server with respect to receiving mount commands from the CASTOR drive scheduler (VDQ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client with respect to the CASTOR stagers from where it gets the lists of files to be trans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client with respect to the remote file systems with which it transfers the contents of files to and from mem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ns on a standard PC connected to a tape drive and the tape library in which the drive is inst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rols the mounting, loading, positioning, unloading and un-mounting of the tape even in the event of hardware and software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fers data from remote file systems to memory to tape and vice versa.  Memory is used to smooth bursty disks transfers and to parallelise slow disk trans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mory is used to map the multi-stream approach of disk with the sequential one file after another format of 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F5C8283E-017B-4742-95B4-93A65E38478A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pe 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ring the physical layout and capabilities of the tape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tapes and drives are located in which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tapes are compatible with which dr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eping track of the current status of the tape d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E or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euing user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ping tapes to user tape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uting user files to user tape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iting the number of tape m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inefficiency due to costly mounts/un-m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ware and tare on the tape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AC24BA99-E091-465F-8FC0-AADE9F2BDB9C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sible CASTOR impr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rge the tape drive scheduler and tape catalogue daem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ne daemon instead of 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ingle tape resource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ve all drive scheduler and tape catalogue logic to PL/SQL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eues and prioritise tape write requests based on tape pools as opposed to t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omically schedule of tapes and drives when writing to t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rtbeat mechanism to identify unreachable tape servers and automatically stop scheduling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-emptive scheduling to enable true background repack and tape verification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libraries that contain drives with asymmetric read/write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place CUPV for tape authorisation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tager/tapegateway should no longer control the fseq of individual write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tape server should simply report where files have been written (VID + fseq + block I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DC566A8A-637E-401E-B5B7-38246FA6FF95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CT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third party copy engine for tape that provi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mple interface to 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ape resource schedu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TA has no disk storage and will not stage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ote storage will provide adequate bandwidth for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A does not depend on 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will be a separate architectur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A4DCC688-51C3-4843-83D3-E93E16665A81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iv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from the evolution of tap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ay from random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wards bulk archival and retri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EOS with direct access to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tape in one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catalogue, queues, policies, scheduling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and consistent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cheduling decisions based on parti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and powerful platform for future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contained unit within the DSS tool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ooter Placeholder 3"/>
          <p:cNvSpPr/>
          <p:nvPr/>
        </p:nvSpPr>
        <p:spPr>
          <a:xfrm>
            <a:off x="190512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Presentation Title - </a:t>
            </a:r>
            <a:fld id="{0A001C05-F88C-4BB3-AA4A-61D617AF2777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58"/>
          <p:cNvGrpSpPr/>
          <p:nvPr/>
        </p:nvGrpSpPr>
        <p:grpSpPr>
          <a:xfrm>
            <a:off x="5867280" y="5867280"/>
            <a:ext cx="628920" cy="800280"/>
            <a:chOff x="5867280" y="5867280"/>
            <a:chExt cx="628920" cy="800280"/>
          </a:xfrm>
        </p:grpSpPr>
        <p:sp>
          <p:nvSpPr>
            <p:cNvPr id="518" name="Rectangle 60"/>
            <p:cNvSpPr/>
            <p:nvPr/>
          </p:nvSpPr>
          <p:spPr>
            <a:xfrm>
              <a:off x="5867280" y="5867280"/>
              <a:ext cx="628920" cy="8002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63"/>
            <p:cNvSpPr/>
            <p:nvPr/>
          </p:nvSpPr>
          <p:spPr>
            <a:xfrm>
              <a:off x="5949720" y="6190920"/>
              <a:ext cx="464040" cy="423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Freeform 54"/>
          <p:cNvSpPr/>
          <p:nvPr/>
        </p:nvSpPr>
        <p:spPr>
          <a:xfrm>
            <a:off x="8375760" y="3641760"/>
            <a:ext cx="691920" cy="6573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ounded Rectangle 40"/>
          <p:cNvSpPr/>
          <p:nvPr/>
        </p:nvSpPr>
        <p:spPr>
          <a:xfrm>
            <a:off x="3962520" y="57913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ounded Rectangle 26"/>
          <p:cNvSpPr/>
          <p:nvPr/>
        </p:nvSpPr>
        <p:spPr>
          <a:xfrm>
            <a:off x="6705720" y="268920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ounded Rectangle 25"/>
          <p:cNvSpPr/>
          <p:nvPr/>
        </p:nvSpPr>
        <p:spPr>
          <a:xfrm>
            <a:off x="6629400" y="27655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ounded Rectangle 24"/>
          <p:cNvSpPr/>
          <p:nvPr/>
        </p:nvSpPr>
        <p:spPr>
          <a:xfrm>
            <a:off x="1219320" y="28195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ounded Rectangle 23"/>
          <p:cNvSpPr/>
          <p:nvPr/>
        </p:nvSpPr>
        <p:spPr>
          <a:xfrm>
            <a:off x="380880" y="4572000"/>
            <a:ext cx="175284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ounded Rectangle 22"/>
          <p:cNvSpPr/>
          <p:nvPr/>
        </p:nvSpPr>
        <p:spPr>
          <a:xfrm>
            <a:off x="304920" y="46483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ounded Rectangle 16"/>
          <p:cNvSpPr/>
          <p:nvPr/>
        </p:nvSpPr>
        <p:spPr>
          <a:xfrm>
            <a:off x="3124080" y="2362320"/>
            <a:ext cx="3276720" cy="19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 data 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A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ADC28895-DF9A-4EA7-A9CA-83DE17E79AD8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3352680" y="2895480"/>
            <a:ext cx="129564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pe catalog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3352680" y="3263760"/>
            <a:ext cx="129564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ive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4849920" y="289548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ardware layou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352680" y="4000680"/>
            <a:ext cx="1295640" cy="190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3354480" y="363204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pe poo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9"/>
          <p:cNvSpPr/>
          <p:nvPr/>
        </p:nvSpPr>
        <p:spPr>
          <a:xfrm>
            <a:off x="4849920" y="4000680"/>
            <a:ext cx="1295280" cy="190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unt polic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0"/>
          <p:cNvSpPr/>
          <p:nvPr/>
        </p:nvSpPr>
        <p:spPr>
          <a:xfrm>
            <a:off x="4849920" y="326376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ive capabili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5"/>
          <p:cNvSpPr/>
          <p:nvPr/>
        </p:nvSpPr>
        <p:spPr>
          <a:xfrm>
            <a:off x="4849920" y="363204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ounded Rectangle 17"/>
          <p:cNvSpPr/>
          <p:nvPr/>
        </p:nvSpPr>
        <p:spPr>
          <a:xfrm>
            <a:off x="228600" y="47242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ounded Rectangle 18"/>
          <p:cNvSpPr/>
          <p:nvPr/>
        </p:nvSpPr>
        <p:spPr>
          <a:xfrm>
            <a:off x="1143000" y="28954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ounded Rectangle 19"/>
          <p:cNvSpPr/>
          <p:nvPr/>
        </p:nvSpPr>
        <p:spPr>
          <a:xfrm>
            <a:off x="6553080" y="2879640"/>
            <a:ext cx="175284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ounded Rectangle 20"/>
          <p:cNvSpPr/>
          <p:nvPr/>
        </p:nvSpPr>
        <p:spPr>
          <a:xfrm>
            <a:off x="3733920" y="990720"/>
            <a:ext cx="22096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CASTOR n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ounded Rectangle 21"/>
          <p:cNvSpPr/>
          <p:nvPr/>
        </p:nvSpPr>
        <p:spPr>
          <a:xfrm>
            <a:off x="3894120" y="58672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Straight Arrow Connector 30"/>
          <p:cNvCxnSpPr/>
          <p:nvPr/>
        </p:nvCxnSpPr>
        <p:spPr>
          <a:xfrm>
            <a:off x="2362320" y="3886200"/>
            <a:ext cx="1581840" cy="182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4" name="Straight Arrow Connector 33"/>
          <p:cNvCxnSpPr/>
          <p:nvPr/>
        </p:nvCxnSpPr>
        <p:spPr>
          <a:xfrm flipV="1">
            <a:off x="1218960" y="3885840"/>
            <a:ext cx="53388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5" name="Straight Arrow Connector 36"/>
          <p:cNvCxnSpPr/>
          <p:nvPr/>
        </p:nvCxnSpPr>
        <p:spPr>
          <a:xfrm flipV="1">
            <a:off x="2057400" y="1504440"/>
            <a:ext cx="1612080" cy="1242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6" name="Straight Arrow Connector 38"/>
          <p:cNvCxnSpPr/>
          <p:nvPr/>
        </p:nvCxnSpPr>
        <p:spPr>
          <a:xfrm flipH="1" flipV="1">
            <a:off x="6008040" y="1504080"/>
            <a:ext cx="1421640" cy="1125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7" name="Straight Arrow Connector 41"/>
          <p:cNvCxnSpPr/>
          <p:nvPr/>
        </p:nvCxnSpPr>
        <p:spPr>
          <a:xfrm flipH="1">
            <a:off x="5790600" y="3886200"/>
            <a:ext cx="1639080" cy="1829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48" name="Straight Arrow Connector 51"/>
          <p:cNvCxnSpPr/>
          <p:nvPr/>
        </p:nvCxnSpPr>
        <p:spPr>
          <a:xfrm>
            <a:off x="2739960" y="3600000"/>
            <a:ext cx="53424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9" name="Straight Arrow Connector 55"/>
          <p:cNvCxnSpPr/>
          <p:nvPr/>
        </p:nvCxnSpPr>
        <p:spPr>
          <a:xfrm>
            <a:off x="6248160" y="3602160"/>
            <a:ext cx="53388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550" name="Rectangle 59"/>
          <p:cNvSpPr/>
          <p:nvPr/>
        </p:nvSpPr>
        <p:spPr>
          <a:xfrm>
            <a:off x="1371600" y="3505320"/>
            <a:ext cx="1295280" cy="19044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bctaschedul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1"/>
          <p:cNvSpPr/>
          <p:nvPr/>
        </p:nvSpPr>
        <p:spPr>
          <a:xfrm>
            <a:off x="6832440" y="3508200"/>
            <a:ext cx="1295640" cy="1908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bctaschedul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olded Corner 62"/>
          <p:cNvSpPr/>
          <p:nvPr/>
        </p:nvSpPr>
        <p:spPr>
          <a:xfrm>
            <a:off x="7213680" y="1295280"/>
            <a:ext cx="1244520" cy="91440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TOR tape server modified to work with libcta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aight Connector 64"/>
          <p:cNvSpPr/>
          <p:nvPr/>
        </p:nvSpPr>
        <p:spPr>
          <a:xfrm flipH="1">
            <a:off x="7657920" y="228600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olded Corner 66"/>
          <p:cNvSpPr/>
          <p:nvPr/>
        </p:nvSpPr>
        <p:spPr>
          <a:xfrm>
            <a:off x="152280" y="1504800"/>
            <a:ext cx="1494000" cy="106704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CTA business logic and data management code is in libcta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traight Connector 68"/>
          <p:cNvSpPr/>
          <p:nvPr/>
        </p:nvSpPr>
        <p:spPr>
          <a:xfrm>
            <a:off x="685800" y="2689200"/>
            <a:ext cx="80028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olded Corner 72"/>
          <p:cNvSpPr/>
          <p:nvPr/>
        </p:nvSpPr>
        <p:spPr>
          <a:xfrm>
            <a:off x="4343400" y="4572000"/>
            <a:ext cx="1600200" cy="762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roto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fil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traight Connector 78"/>
          <p:cNvSpPr/>
          <p:nvPr/>
        </p:nvSpPr>
        <p:spPr>
          <a:xfrm>
            <a:off x="4749840" y="4210200"/>
            <a:ext cx="276120" cy="361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1"/>
          <p:cNvSpPr/>
          <p:nvPr/>
        </p:nvSpPr>
        <p:spPr>
          <a:xfrm rot="18694800">
            <a:off x="6506280" y="47743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9"/>
          <p:cNvSpPr/>
          <p:nvPr/>
        </p:nvSpPr>
        <p:spPr>
          <a:xfrm rot="19366800">
            <a:off x="1912680" y="18511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ands/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53"/>
          <p:cNvSpPr/>
          <p:nvPr/>
        </p:nvSpPr>
        <p:spPr>
          <a:xfrm>
            <a:off x="8291520" y="3718080"/>
            <a:ext cx="693720" cy="6570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9487"/>
          <p:cNvSpPr/>
          <p:nvPr/>
        </p:nvSpPr>
        <p:spPr>
          <a:xfrm>
            <a:off x="8197920" y="3838680"/>
            <a:ext cx="691920" cy="6570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9490"/>
          <p:cNvGrpSpPr/>
          <p:nvPr/>
        </p:nvGrpSpPr>
        <p:grpSpPr>
          <a:xfrm>
            <a:off x="5791320" y="5981760"/>
            <a:ext cx="628560" cy="799920"/>
            <a:chOff x="5791320" y="5981760"/>
            <a:chExt cx="628560" cy="799920"/>
          </a:xfrm>
        </p:grpSpPr>
        <p:sp>
          <p:nvSpPr>
            <p:cNvPr id="563" name="Rectangle 19488"/>
            <p:cNvSpPr/>
            <p:nvPr/>
          </p:nvSpPr>
          <p:spPr>
            <a:xfrm>
              <a:off x="5791320" y="5981760"/>
              <a:ext cx="628560" cy="799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19489"/>
            <p:cNvSpPr/>
            <p:nvPr/>
          </p:nvSpPr>
          <p:spPr>
            <a:xfrm>
              <a:off x="5873760" y="6305040"/>
              <a:ext cx="463680" cy="42300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blem dim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152280" y="106632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ak performance of CASTOR tape sustained over 2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3 million files, 25 PetaByte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file size = 300 Mega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erage user request rate = 34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ak user request rate = 7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 data rate of CASTOR is ≈ 5 times less than 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 PetaByte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user reques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0 Hz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0 Hz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451460E2-2FDD-4ED8-8EAD-71927194614D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STOR and C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TA will run alongside the current CA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re tape file metadata (CASTOR ns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need to migrate the actual tap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options for co-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6AE0E94C-5EDE-4F7C-95AC-539DF7238963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estions for D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mespac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movers and garbage collecto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0D36F4E8-3A56-49F7-A82A-3D5AB7579AE2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amespa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chnical meeting is being orga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OS m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STOR n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thing e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uper namespace for multiple tiers of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EOS and one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EOS and many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recovery strate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95F85851-1FC4-4355-B6CD-EDE0DA8D0B91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 movers and garbage collecto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we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SM - CA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recall – Is anybody asking for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sted - EOS arch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n by power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rchive is a namespace tree within 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an freeze, archive, purge and retrieve arch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’re on your own - ATLAS and C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party copies between EOS and CA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we miss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archive from EOS to CASTOR / 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775BF932-9224-4DD7-A316-ED72BCF7F918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08:51:15Z</dcterms:created>
  <dc:creator>rosy</dc:creator>
  <dc:description/>
  <dc:language>en-US</dc:language>
  <cp:lastModifiedBy>Steven Murray</cp:lastModifiedBy>
  <cp:lastPrinted>2015-10-23T07:25:15Z</cp:lastPrinted>
  <dcterms:modified xsi:type="dcterms:W3CDTF">2015-10-26T18:47:56Z</dcterms:modified>
  <cp:revision>112</cp:revision>
  <dc:subject/>
  <dc:title>Slide 1</dc:title>
</cp:coreProperties>
</file>