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1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1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C224-9BBB-47ED-9D9C-86C014F0AB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77C6-1F56-460B-9227-94A56B0240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52C4-1B5F-4C3E-AD27-CDB950BD61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C4A5-B62D-4C1F-9BB2-55B09828FB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6D36-53E0-493F-8763-AB30336B91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EA69-6F71-4CF9-980B-00E5EA51C0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EF1F-C1BF-4A0C-A778-101A238597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9BB9-41E6-4E43-9F04-8CB81B19B2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94E5-A7E0-420F-8368-18F68B65D9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49EA-23B0-40BE-9552-7C32A20B6C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FCAE-03F2-4E25-B1F1-ADB08F949F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C71F-5575-4E43-B843-B526BB5BA2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45C5-3C61-456E-8E0A-6A29815301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52D2-6CB4-4636-AC12-ED655069BB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1CAE2AE5-4219-4BAE-81E7-561419D56C38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8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41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ftr" idx="9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A228A2C8-9EBB-4BC1-8FC5-B5C560815FB0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1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10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AC1AAF95-5553-40F5-B454-4AE7A72AE731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AD731DBD-239C-4DD5-89DA-5717DED23559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1143000" y="0"/>
            <a:ext cx="8001000" cy="849240"/>
            <a:chOff x="1143000" y="0"/>
            <a:chExt cx="8001000" cy="849240"/>
          </a:xfrm>
        </p:grpSpPr>
        <p:pic>
          <p:nvPicPr>
            <p:cNvPr id="91" name="Picture 20" descr="banner-ITonly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8001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itle 1"/>
            <p:cNvSpPr/>
            <p:nvPr/>
          </p:nvSpPr>
          <p:spPr>
            <a:xfrm>
              <a:off x="1295280" y="0"/>
              <a:ext cx="5562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ata &amp; Storage Serv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0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96" name="Picture 18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9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4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3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CE926FB7-5B6E-4F5A-825F-A4DB094D77DA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8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4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ACC0976A-6310-4BC2-AC92-51547D022E12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33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32B1F251-08E0-44A7-84A2-FAC188A3E750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79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6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5B7EC003-7A4C-431F-9B79-644337FCCBB5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25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7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762BB5E6-09B2-45A4-B1D0-7EE45ECAE7A9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7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8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AF2CC69B-57B5-444C-A8BD-EF0C0536757E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CERN / CASTOR Tape Archive (CTA)</a:t>
            </a:r>
            <a:br>
              <a:rPr sz="3600"/>
            </a:b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Motivations and con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21337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61aa"/>
                </a:solidFill>
                <a:latin typeface="Arial"/>
              </a:rPr>
              <a:t>2015 Program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v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erve slides beyond this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B9959097-FE87-4DAA-80BC-E7D38A532488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OR tape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server with respect to receiving mount commands from the CASTOR drive scheduler (VDQ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CASTOR stagers from where it gets the lists of files to be trans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remote file systems with which it transfers the contents of files to and from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s on a standard PC connected to a tape drive and the tape library in which the drive is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s the mounting, loading, positioning, unloading and un-mounting of the tape even in the event of hardware and software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s data from remote file systems to memory to tape and vice versa.  Memory is used to smooth bursty disks transfers and to parallelise slow disk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is used to map the multi-stream approach of disk with the sequential one file after another format of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86B87C87-0F59-412B-AE62-822A6F9FB5F9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p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ing the physical layout and capabilities of the tape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nd drives are located in which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re compatible with which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ing track of the current status of the tape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 or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uing us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tap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ing user fil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ing the number of tape 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inefficiency due to costly mounts/un-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ware and tare on the tap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7C6873C1-D6EC-4595-8EF4-21FC86B819F2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sible CASTOR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ge the tape drive scheduler and tape catalogue dae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e daemon instead of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ingle tape resourc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ve all drive scheduler and tape catalogue logic to PL/SQL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eues and prioritise tape write requests based on tape pools as opposed to t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omically schedule of tapes and drives when writing to t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rtbeat mechanism to identify unreachable tape servers and automatically stop scheduling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-emptive scheduling to enable true background repack and tape verification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libraries that contain drives with asymmetric read/write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lace CUPV for tape authoris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ger/tapegateway should no longer control the fseq of individual writ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tape server should simply report where files have been written (VID + fseq + block 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C901DB48-EF62-4695-826C-B536060F7474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ird party copy engine for tape that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interface to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ape resourc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TA has no disk storage and will not stag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storage will provide adequate bandwidth for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does not depend on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be a separate architectur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D93FF621-5BFD-4EBB-88FF-70A855D818A7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the evolution of tap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y from random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s bulk archival and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OS with direct access to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ape in on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catalogue, queues, policies, scheduli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nd consistent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cheduling decisions based on part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nd powerful platform for futur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tained unit within the DSS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190512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Presentation Title - </a:t>
            </a:r>
            <a:fld id="{EEEB3C41-36C5-4CC0-8E5B-83C56D2FBCC3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58"/>
          <p:cNvGrpSpPr/>
          <p:nvPr/>
        </p:nvGrpSpPr>
        <p:grpSpPr>
          <a:xfrm>
            <a:off x="5867280" y="5867280"/>
            <a:ext cx="628920" cy="800280"/>
            <a:chOff x="5867280" y="5867280"/>
            <a:chExt cx="628920" cy="800280"/>
          </a:xfrm>
        </p:grpSpPr>
        <p:sp>
          <p:nvSpPr>
            <p:cNvPr id="518" name="Rectangle 60"/>
            <p:cNvSpPr/>
            <p:nvPr/>
          </p:nvSpPr>
          <p:spPr>
            <a:xfrm>
              <a:off x="5867280" y="5867280"/>
              <a:ext cx="628920" cy="800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63"/>
            <p:cNvSpPr/>
            <p:nvPr/>
          </p:nvSpPr>
          <p:spPr>
            <a:xfrm>
              <a:off x="5949720" y="6190920"/>
              <a:ext cx="464040" cy="423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Freeform 54"/>
          <p:cNvSpPr/>
          <p:nvPr/>
        </p:nvSpPr>
        <p:spPr>
          <a:xfrm>
            <a:off x="8375760" y="3641760"/>
            <a:ext cx="691920" cy="657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ounded Rectangle 40"/>
          <p:cNvSpPr/>
          <p:nvPr/>
        </p:nvSpPr>
        <p:spPr>
          <a:xfrm>
            <a:off x="3962520" y="5791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26"/>
          <p:cNvSpPr/>
          <p:nvPr/>
        </p:nvSpPr>
        <p:spPr>
          <a:xfrm>
            <a:off x="6705720" y="268920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ounded Rectangle 25"/>
          <p:cNvSpPr/>
          <p:nvPr/>
        </p:nvSpPr>
        <p:spPr>
          <a:xfrm>
            <a:off x="6629400" y="2765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ounded Rectangle 24"/>
          <p:cNvSpPr/>
          <p:nvPr/>
        </p:nvSpPr>
        <p:spPr>
          <a:xfrm>
            <a:off x="1219320" y="2819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ounded Rectangle 23"/>
          <p:cNvSpPr/>
          <p:nvPr/>
        </p:nvSpPr>
        <p:spPr>
          <a:xfrm>
            <a:off x="380880" y="4572000"/>
            <a:ext cx="175284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ounded Rectangle 22"/>
          <p:cNvSpPr/>
          <p:nvPr/>
        </p:nvSpPr>
        <p:spPr>
          <a:xfrm>
            <a:off x="304920" y="4648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16"/>
          <p:cNvSpPr/>
          <p:nvPr/>
        </p:nvSpPr>
        <p:spPr>
          <a:xfrm>
            <a:off x="3124080" y="2362320"/>
            <a:ext cx="3276720" cy="19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 data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A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F74EC521-40D4-4BF1-9689-8B03DBAE4C90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352680" y="289548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catalog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352680" y="326376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4849920" y="289548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rdware lay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352680" y="4000680"/>
            <a:ext cx="129564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35448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p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4849920" y="4000680"/>
            <a:ext cx="129528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unt polic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4849920" y="326376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484992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ounded Rectangle 17"/>
          <p:cNvSpPr/>
          <p:nvPr/>
        </p:nvSpPr>
        <p:spPr>
          <a:xfrm>
            <a:off x="228600" y="4724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8"/>
          <p:cNvSpPr/>
          <p:nvPr/>
        </p:nvSpPr>
        <p:spPr>
          <a:xfrm>
            <a:off x="1143000" y="28954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9"/>
          <p:cNvSpPr/>
          <p:nvPr/>
        </p:nvSpPr>
        <p:spPr>
          <a:xfrm>
            <a:off x="6553080" y="2879640"/>
            <a:ext cx="175284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20"/>
          <p:cNvSpPr/>
          <p:nvPr/>
        </p:nvSpPr>
        <p:spPr>
          <a:xfrm>
            <a:off x="3733920" y="990720"/>
            <a:ext cx="22096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ASTOR n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ounded Rectangle 21"/>
          <p:cNvSpPr/>
          <p:nvPr/>
        </p:nvSpPr>
        <p:spPr>
          <a:xfrm>
            <a:off x="3894120" y="5867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Straight Arrow Connector 30"/>
          <p:cNvCxnSpPr/>
          <p:nvPr/>
        </p:nvCxnSpPr>
        <p:spPr>
          <a:xfrm>
            <a:off x="2362320" y="3886200"/>
            <a:ext cx="158184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4" name="Straight Arrow Connector 33"/>
          <p:cNvCxnSpPr/>
          <p:nvPr/>
        </p:nvCxnSpPr>
        <p:spPr>
          <a:xfrm flipV="1">
            <a:off x="1218960" y="3885840"/>
            <a:ext cx="5338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5" name="Straight Arrow Connector 36"/>
          <p:cNvCxnSpPr/>
          <p:nvPr/>
        </p:nvCxnSpPr>
        <p:spPr>
          <a:xfrm flipV="1">
            <a:off x="2057400" y="1504440"/>
            <a:ext cx="1612080" cy="124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6" name="Straight Arrow Connector 38"/>
          <p:cNvCxnSpPr/>
          <p:nvPr/>
        </p:nvCxnSpPr>
        <p:spPr>
          <a:xfrm flipH="1" flipV="1">
            <a:off x="6008040" y="1504080"/>
            <a:ext cx="1421640" cy="1125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41"/>
          <p:cNvCxnSpPr/>
          <p:nvPr/>
        </p:nvCxnSpPr>
        <p:spPr>
          <a:xfrm flipH="1">
            <a:off x="5790600" y="3886200"/>
            <a:ext cx="1639080" cy="1829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8" name="Straight Arrow Connector 51"/>
          <p:cNvCxnSpPr/>
          <p:nvPr/>
        </p:nvCxnSpPr>
        <p:spPr>
          <a:xfrm>
            <a:off x="2739960" y="3600000"/>
            <a:ext cx="5342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55"/>
          <p:cNvCxnSpPr/>
          <p:nvPr/>
        </p:nvCxnSpPr>
        <p:spPr>
          <a:xfrm>
            <a:off x="6248160" y="3602160"/>
            <a:ext cx="53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550" name="Rectangle 59"/>
          <p:cNvSpPr/>
          <p:nvPr/>
        </p:nvSpPr>
        <p:spPr>
          <a:xfrm>
            <a:off x="1371600" y="3505320"/>
            <a:ext cx="1295280" cy="190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1"/>
          <p:cNvSpPr/>
          <p:nvPr/>
        </p:nvSpPr>
        <p:spPr>
          <a:xfrm>
            <a:off x="6832440" y="3508200"/>
            <a:ext cx="1295640" cy="19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lded Corner 62"/>
          <p:cNvSpPr/>
          <p:nvPr/>
        </p:nvSpPr>
        <p:spPr>
          <a:xfrm>
            <a:off x="7213680" y="1295280"/>
            <a:ext cx="1244520" cy="9144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TOR tape server modified to work with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64"/>
          <p:cNvSpPr/>
          <p:nvPr/>
        </p:nvSpPr>
        <p:spPr>
          <a:xfrm flipH="1">
            <a:off x="7657920" y="22860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lded Corner 66"/>
          <p:cNvSpPr/>
          <p:nvPr/>
        </p:nvSpPr>
        <p:spPr>
          <a:xfrm>
            <a:off x="152280" y="1504800"/>
            <a:ext cx="1494000" cy="10670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CTA business logic and data management code is in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68"/>
          <p:cNvSpPr/>
          <p:nvPr/>
        </p:nvSpPr>
        <p:spPr>
          <a:xfrm>
            <a:off x="685800" y="2689200"/>
            <a:ext cx="80028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lded Corner 72"/>
          <p:cNvSpPr/>
          <p:nvPr/>
        </p:nvSpPr>
        <p:spPr>
          <a:xfrm>
            <a:off x="4343400" y="4572000"/>
            <a:ext cx="1600200" cy="762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fil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78"/>
          <p:cNvSpPr/>
          <p:nvPr/>
        </p:nvSpPr>
        <p:spPr>
          <a:xfrm>
            <a:off x="4749840" y="4210200"/>
            <a:ext cx="276120" cy="36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"/>
          <p:cNvSpPr/>
          <p:nvPr/>
        </p:nvSpPr>
        <p:spPr>
          <a:xfrm rot="18694800">
            <a:off x="6506280" y="4774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9"/>
          <p:cNvSpPr/>
          <p:nvPr/>
        </p:nvSpPr>
        <p:spPr>
          <a:xfrm rot="19366800">
            <a:off x="1912680" y="18511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s/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3"/>
          <p:cNvSpPr/>
          <p:nvPr/>
        </p:nvSpPr>
        <p:spPr>
          <a:xfrm>
            <a:off x="8291520" y="3718080"/>
            <a:ext cx="6937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9487"/>
          <p:cNvSpPr/>
          <p:nvPr/>
        </p:nvSpPr>
        <p:spPr>
          <a:xfrm>
            <a:off x="8197920" y="3838680"/>
            <a:ext cx="6919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9490"/>
          <p:cNvGrpSpPr/>
          <p:nvPr/>
        </p:nvGrpSpPr>
        <p:grpSpPr>
          <a:xfrm>
            <a:off x="5791320" y="5981760"/>
            <a:ext cx="628560" cy="799920"/>
            <a:chOff x="5791320" y="5981760"/>
            <a:chExt cx="628560" cy="799920"/>
          </a:xfrm>
        </p:grpSpPr>
        <p:sp>
          <p:nvSpPr>
            <p:cNvPr id="563" name="Rectangle 19488"/>
            <p:cNvSpPr/>
            <p:nvPr/>
          </p:nvSpPr>
          <p:spPr>
            <a:xfrm>
              <a:off x="5791320" y="5981760"/>
              <a:ext cx="628560" cy="799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9489"/>
            <p:cNvSpPr/>
            <p:nvPr/>
          </p:nvSpPr>
          <p:spPr>
            <a:xfrm>
              <a:off x="5873760" y="6305040"/>
              <a:ext cx="463680" cy="4230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 dim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52280" y="10663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k performance of CASTOR tape sustained over 2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3 million files, 25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file size = 300 Me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user request rate = 34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user request rate = 7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data rate of CASTOR is ≈ 5 times less than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user reques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0 Hz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 Hz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81253F04-328F-4361-8309-37B9528FAF87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STOR and C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TA will run alongside the current CA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tape file metadata (CASTOR n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need to migrate the actual tap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options for co-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DFDC0941-CDF5-4810-8254-16BA6325B0AF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stions for 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spa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movers and garbage collect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95DA6D62-7ED2-41B7-9717-4EAAFCFA05F0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mespa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ical meeting is being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OS m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TOR n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per namespace for multiple tiers of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one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many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covery strate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776C46B9-D07F-4622-B6A0-598C660F91B7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movers and garbage collecto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M - CA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recall – Is anybody asking for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ed - EOS arch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n by pow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chive is a namespace tree within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freeze, archive, purge and retrieve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on your own - ATLAS and C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party copies between EOS and CA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we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archive from EOS to CASTOR / 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48912677-908C-4F2C-AB9D-42A832AAEF76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1:15Z</dcterms:created>
  <dc:creator>rosy</dc:creator>
  <dc:description/>
  <dc:language>en-US</dc:language>
  <cp:lastModifiedBy>Steven Murray</cp:lastModifiedBy>
  <cp:lastPrinted>2015-10-23T07:25:15Z</cp:lastPrinted>
  <dcterms:modified xsi:type="dcterms:W3CDTF">2015-10-26T18:47:56Z</dcterms:modified>
  <cp:revision>112</cp:revision>
  <dc:subject/>
  <dc:title>Slide 1</dc:title>
</cp:coreProperties>
</file>