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dt" idx="1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ftr" idx="1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 type="sldNum" idx="1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1D7D-709A-4D20-9BFB-08937C09894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7DE9-CAF6-4D9F-9CE2-60C8CBA963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2ED7-E6F7-4BC9-9619-5F07FC5894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1DFF-6BDA-439F-9607-21CC95966D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035F-BA08-489C-B0C1-AC1EE18DA7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38D0-BD20-4DFF-A1C4-2802527092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EE35-26AA-4B7F-8F5D-F979306974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2A88-81C4-4468-A59C-A0C52F21CC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9B86-9594-4060-89FD-2E6EA235B8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8D61-5C89-4511-AE5B-3AB7176FCB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BFC8-967A-43EF-828A-F5A9117A84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558B-7967-4751-9415-7B38039E92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F6D7-DBCD-44D8-B9D4-FFDB3BD67E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3073-E86B-49BF-B05D-10AA68C867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Presentation Title - </a:t>
            </a:r>
            <a:fld id="{3C0472A9-7AD9-4BD3-89E7-C97C225CACF2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8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417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ftr" idx="9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AFAD30A1-6F94-4DAE-9920-BA7E0A015922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7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Object 20"/>
          <p:cNvGraphicFramePr/>
          <p:nvPr/>
        </p:nvGraphicFramePr>
        <p:xfrm>
          <a:off x="0" y="0"/>
          <a:ext cx="118908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0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1890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1" name="Picture 7" descr="0804041_19_DSS.tif"/>
          <p:cNvPicPr/>
          <p:nvPr/>
        </p:nvPicPr>
        <p:blipFill>
          <a:blip r:embed="rId5"/>
          <a:srcRect l="26287" t="37486" r="43681" b="48775"/>
          <a:stretch/>
        </p:blipFill>
        <p:spPr>
          <a:xfrm>
            <a:off x="0" y="0"/>
            <a:ext cx="1219320" cy="838080"/>
          </a:xfrm>
          <a:prstGeom prst="rect">
            <a:avLst/>
          </a:prstGeom>
          <a:ln w="0">
            <a:noFill/>
          </a:ln>
        </p:spPr>
      </p:pic>
      <p:sp>
        <p:nvSpPr>
          <p:cNvPr id="462" name="TextBox 8"/>
          <p:cNvSpPr/>
          <p:nvPr/>
        </p:nvSpPr>
        <p:spPr>
          <a:xfrm>
            <a:off x="0" y="-1116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&amp; Storag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ftr" idx="10"/>
          </p:nvPr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Presentation title - </a:t>
            </a:r>
            <a:fld id="{29B89AC7-1F46-492C-A48E-3B6FC08A1E96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D4ABD103-3020-4456-AA2F-55B823769225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20"/>
          <p:cNvGraphicFramePr/>
          <p:nvPr/>
        </p:nvGraphicFramePr>
        <p:xfrm>
          <a:off x="0" y="0"/>
          <a:ext cx="118908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1890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Picture 7" descr="0804041_19_DSS.tif"/>
          <p:cNvPicPr/>
          <p:nvPr/>
        </p:nvPicPr>
        <p:blipFill>
          <a:blip r:embed="rId5"/>
          <a:srcRect l="26287" t="37486" r="43681" b="48775"/>
          <a:stretch/>
        </p:blipFill>
        <p:spPr>
          <a:xfrm>
            <a:off x="0" y="0"/>
            <a:ext cx="1219320" cy="838080"/>
          </a:xfrm>
          <a:prstGeom prst="rect">
            <a:avLst/>
          </a:prstGeom>
          <a:ln w="0">
            <a:noFill/>
          </a:ln>
        </p:spPr>
      </p:pic>
      <p:sp>
        <p:nvSpPr>
          <p:cNvPr id="53" name="TextBox 8"/>
          <p:cNvSpPr/>
          <p:nvPr/>
        </p:nvSpPr>
        <p:spPr>
          <a:xfrm>
            <a:off x="0" y="-1116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&amp; Storag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3"/>
          <p:cNvGrpSpPr/>
          <p:nvPr/>
        </p:nvGrpSpPr>
        <p:grpSpPr>
          <a:xfrm>
            <a:off x="1143000" y="0"/>
            <a:ext cx="8001000" cy="849240"/>
            <a:chOff x="1143000" y="0"/>
            <a:chExt cx="8001000" cy="849240"/>
          </a:xfrm>
        </p:grpSpPr>
        <p:pic>
          <p:nvPicPr>
            <p:cNvPr id="91" name="Picture 20" descr="banner-ITonly"/>
            <p:cNvPicPr/>
            <p:nvPr/>
          </p:nvPicPr>
          <p:blipFill>
            <a:blip r:embed="rId2"/>
            <a:stretch/>
          </p:blipFill>
          <p:spPr>
            <a:xfrm>
              <a:off x="1143000" y="0"/>
              <a:ext cx="80010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itle 1"/>
            <p:cNvSpPr/>
            <p:nvPr/>
          </p:nvSpPr>
          <p:spPr>
            <a:xfrm>
              <a:off x="1295280" y="0"/>
              <a:ext cx="55627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Data &amp; Storage Serv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Picture 20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3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7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96" name="Picture 18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Box 19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141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ftr" idx="3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766EB29D-5517-4BD2-AF34-2B3A457DA6ED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187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ftr" idx="4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F015CF69-EC43-4A97-A460-3857B33B1490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233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ftr" idx="5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E71BA081-AC45-482C-B950-4AB4FBD942B0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279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ftr" idx="6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E1CCDB16-E106-44E7-B102-0F758F298B13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325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ftr" idx="7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07434821-C472-431B-882E-CD53DAA82F07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371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ftr" idx="8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69EBC1A3-2C50-453C-AD9D-268753B8AD33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95280" y="114300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861aa"/>
                </a:solidFill>
                <a:latin typeface="Arial"/>
              </a:rPr>
              <a:t>CERN / CASTOR Tape Archive (CTA)</a:t>
            </a:r>
            <a:br>
              <a:rPr sz="3600"/>
            </a:br>
            <a:r>
              <a:rPr b="1" lang="en-US" sz="3600" spc="-1" strike="noStrike">
                <a:solidFill>
                  <a:srgbClr val="3861aa"/>
                </a:solidFill>
                <a:latin typeface="Arial"/>
              </a:rPr>
              <a:t>Motivations and contex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21337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861aa"/>
                </a:solidFill>
                <a:latin typeface="Arial"/>
              </a:rPr>
              <a:t>2015 Program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rve sl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erve slides beyond this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57C98C73-FEB7-4465-B388-D7027F0C4377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TOR tape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server with respect to receiving mount commands from the CASTOR drive scheduler (VDQ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client with respect to the CASTOR stagers from where it gets the lists of files to be trans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client with respect to the remote file systems with which it transfers the contents of files to and from mem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uns on a standard PC connected to a tape drive and the tape library in which the drive is inst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rols the mounting, loading, positioning, unloading and un-mounting of the tape even in the event of hardware and software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fers data from remote file systems to memory to tape and vice versa.  Memory is used to smooth bursty disks transfers and to parallelise slow disk trans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mory is used to map the multi-stream approach of disk with the sequential one file after another format of t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D24C156D-AD12-44A5-AE0A-6BEB661F0BFF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pe schedu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oring the physical layout and capabilities of the tape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tapes and drives are located in which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tapes are compatible with which dr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eping track of the current status of the tape d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E or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euing user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pping tapes to user tape p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uting user files to user tape p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miting the number of tape m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 inefficiency due to costly mounts/un-m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 ware and tare on the tape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93F12203-F58B-4D4D-BB90-4C374B187CAA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sible CASTOR impr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rge the tape drive scheduler and tape catalogue daem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ne daemon instead of 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ingle tape resource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ve all drive scheduler and tape catalogue logic to PL/SQL 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ueues and prioritise tape write requests based on tape pools as opposed to t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omically schedule of tapes and drives when writing to t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artbeat mechanism to identify unreachable tape servers and automatically stop scheduling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-emptive scheduling to enable true background repack and tape verification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libraries that contain drives with asymmetric read/write 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place CUPV for tape authorisation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tager/tapegateway should no longer control the fseq of individual write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tape server should simply report where files have been written (VID + fseq + block I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E0E7B07C-BB23-45D9-859F-D9B1F4EC5623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CT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third party copy engine for tape that provi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mple interface to t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ape resource schedu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TA has no disk storage and will not stage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ote storage will provide adequate bandwidth for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A does not depend on Or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will be a separate architectur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ED265798-DF59-47B3-A717-09453E3E88FE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iv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t from the evolution of tape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ay from random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wards bulk archival and retrie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EOS with direct access to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 tape in one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catalogue, queues, policies, scheduling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and consistent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cheduling decisions based on partial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and powerful platform for future impr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contained unit within the DSS tool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ooter Placeholder 3"/>
          <p:cNvSpPr/>
          <p:nvPr/>
        </p:nvSpPr>
        <p:spPr>
          <a:xfrm>
            <a:off x="190512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Presentation Title - </a:t>
            </a:r>
            <a:fld id="{71028D79-0ECF-4C1C-851E-B97FF072739E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Group 58"/>
          <p:cNvGrpSpPr/>
          <p:nvPr/>
        </p:nvGrpSpPr>
        <p:grpSpPr>
          <a:xfrm>
            <a:off x="5867280" y="5867280"/>
            <a:ext cx="628920" cy="800280"/>
            <a:chOff x="5867280" y="5867280"/>
            <a:chExt cx="628920" cy="800280"/>
          </a:xfrm>
        </p:grpSpPr>
        <p:sp>
          <p:nvSpPr>
            <p:cNvPr id="518" name="Rectangle 60"/>
            <p:cNvSpPr/>
            <p:nvPr/>
          </p:nvSpPr>
          <p:spPr>
            <a:xfrm>
              <a:off x="5867280" y="5867280"/>
              <a:ext cx="628920" cy="8002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63"/>
            <p:cNvSpPr/>
            <p:nvPr/>
          </p:nvSpPr>
          <p:spPr>
            <a:xfrm>
              <a:off x="5949720" y="6190920"/>
              <a:ext cx="464040" cy="423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Freeform 54"/>
          <p:cNvSpPr/>
          <p:nvPr/>
        </p:nvSpPr>
        <p:spPr>
          <a:xfrm>
            <a:off x="8375760" y="3641760"/>
            <a:ext cx="691920" cy="6573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ounded Rectangle 40"/>
          <p:cNvSpPr/>
          <p:nvPr/>
        </p:nvSpPr>
        <p:spPr>
          <a:xfrm>
            <a:off x="3962520" y="57913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ounded Rectangle 26"/>
          <p:cNvSpPr/>
          <p:nvPr/>
        </p:nvSpPr>
        <p:spPr>
          <a:xfrm>
            <a:off x="6705720" y="268920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ounded Rectangle 25"/>
          <p:cNvSpPr/>
          <p:nvPr/>
        </p:nvSpPr>
        <p:spPr>
          <a:xfrm>
            <a:off x="6629400" y="27655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ounded Rectangle 24"/>
          <p:cNvSpPr/>
          <p:nvPr/>
        </p:nvSpPr>
        <p:spPr>
          <a:xfrm>
            <a:off x="1219320" y="28195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ounded Rectangle 23"/>
          <p:cNvSpPr/>
          <p:nvPr/>
        </p:nvSpPr>
        <p:spPr>
          <a:xfrm>
            <a:off x="380880" y="4572000"/>
            <a:ext cx="175284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ounded Rectangle 22"/>
          <p:cNvSpPr/>
          <p:nvPr/>
        </p:nvSpPr>
        <p:spPr>
          <a:xfrm>
            <a:off x="304920" y="46483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ounded Rectangle 16"/>
          <p:cNvSpPr/>
          <p:nvPr/>
        </p:nvSpPr>
        <p:spPr>
          <a:xfrm>
            <a:off x="3124080" y="2362320"/>
            <a:ext cx="3276720" cy="19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 data 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TA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7EFBC536-42AB-4776-8E1D-1208653B2365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4"/>
          <p:cNvSpPr/>
          <p:nvPr/>
        </p:nvSpPr>
        <p:spPr>
          <a:xfrm>
            <a:off x="3352680" y="2895480"/>
            <a:ext cx="129564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pe catalog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3352680" y="3263760"/>
            <a:ext cx="129564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rive stat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6"/>
          <p:cNvSpPr/>
          <p:nvPr/>
        </p:nvSpPr>
        <p:spPr>
          <a:xfrm>
            <a:off x="4849920" y="289548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ardware layou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3352680" y="4000680"/>
            <a:ext cx="1295640" cy="1904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8"/>
          <p:cNvSpPr/>
          <p:nvPr/>
        </p:nvSpPr>
        <p:spPr>
          <a:xfrm>
            <a:off x="3354480" y="363204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pe poo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9"/>
          <p:cNvSpPr/>
          <p:nvPr/>
        </p:nvSpPr>
        <p:spPr>
          <a:xfrm>
            <a:off x="4849920" y="4000680"/>
            <a:ext cx="1295280" cy="1904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unt polic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0"/>
          <p:cNvSpPr/>
          <p:nvPr/>
        </p:nvSpPr>
        <p:spPr>
          <a:xfrm>
            <a:off x="4849920" y="326376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rive capabili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5"/>
          <p:cNvSpPr/>
          <p:nvPr/>
        </p:nvSpPr>
        <p:spPr>
          <a:xfrm>
            <a:off x="4849920" y="363204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ounded Rectangle 17"/>
          <p:cNvSpPr/>
          <p:nvPr/>
        </p:nvSpPr>
        <p:spPr>
          <a:xfrm>
            <a:off x="228600" y="47242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ounded Rectangle 18"/>
          <p:cNvSpPr/>
          <p:nvPr/>
        </p:nvSpPr>
        <p:spPr>
          <a:xfrm>
            <a:off x="1143000" y="28954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ounded Rectangle 19"/>
          <p:cNvSpPr/>
          <p:nvPr/>
        </p:nvSpPr>
        <p:spPr>
          <a:xfrm>
            <a:off x="6553080" y="2879640"/>
            <a:ext cx="175284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ounded Rectangle 20"/>
          <p:cNvSpPr/>
          <p:nvPr/>
        </p:nvSpPr>
        <p:spPr>
          <a:xfrm>
            <a:off x="3733920" y="990720"/>
            <a:ext cx="22096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CASTOR n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ounded Rectangle 21"/>
          <p:cNvSpPr/>
          <p:nvPr/>
        </p:nvSpPr>
        <p:spPr>
          <a:xfrm>
            <a:off x="3894120" y="58672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Straight Arrow Connector 30"/>
          <p:cNvCxnSpPr/>
          <p:nvPr/>
        </p:nvCxnSpPr>
        <p:spPr>
          <a:xfrm>
            <a:off x="2362320" y="3886200"/>
            <a:ext cx="1581840" cy="1829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4" name="Straight Arrow Connector 33"/>
          <p:cNvCxnSpPr/>
          <p:nvPr/>
        </p:nvCxnSpPr>
        <p:spPr>
          <a:xfrm flipV="1">
            <a:off x="1218960" y="3885840"/>
            <a:ext cx="53388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5" name="Straight Arrow Connector 36"/>
          <p:cNvCxnSpPr/>
          <p:nvPr/>
        </p:nvCxnSpPr>
        <p:spPr>
          <a:xfrm flipV="1">
            <a:off x="2057400" y="1504440"/>
            <a:ext cx="1612080" cy="1242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6" name="Straight Arrow Connector 38"/>
          <p:cNvCxnSpPr/>
          <p:nvPr/>
        </p:nvCxnSpPr>
        <p:spPr>
          <a:xfrm flipH="1" flipV="1">
            <a:off x="6008040" y="1504080"/>
            <a:ext cx="1421640" cy="1125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7" name="Straight Arrow Connector 41"/>
          <p:cNvCxnSpPr/>
          <p:nvPr/>
        </p:nvCxnSpPr>
        <p:spPr>
          <a:xfrm flipH="1">
            <a:off x="5790600" y="3886200"/>
            <a:ext cx="1639080" cy="1829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48" name="Straight Arrow Connector 51"/>
          <p:cNvCxnSpPr/>
          <p:nvPr/>
        </p:nvCxnSpPr>
        <p:spPr>
          <a:xfrm>
            <a:off x="2739960" y="3600000"/>
            <a:ext cx="53424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9" name="Straight Arrow Connector 55"/>
          <p:cNvCxnSpPr/>
          <p:nvPr/>
        </p:nvCxnSpPr>
        <p:spPr>
          <a:xfrm>
            <a:off x="6248160" y="3602160"/>
            <a:ext cx="53388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</p:cxnSp>
      <p:sp>
        <p:nvSpPr>
          <p:cNvPr id="550" name="Rectangle 59"/>
          <p:cNvSpPr/>
          <p:nvPr/>
        </p:nvSpPr>
        <p:spPr>
          <a:xfrm>
            <a:off x="1371600" y="3505320"/>
            <a:ext cx="1295280" cy="19044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bctaschedul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61"/>
          <p:cNvSpPr/>
          <p:nvPr/>
        </p:nvSpPr>
        <p:spPr>
          <a:xfrm>
            <a:off x="6832440" y="3508200"/>
            <a:ext cx="1295640" cy="1908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bctaschedul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olded Corner 62"/>
          <p:cNvSpPr/>
          <p:nvPr/>
        </p:nvSpPr>
        <p:spPr>
          <a:xfrm>
            <a:off x="7213680" y="1295280"/>
            <a:ext cx="1244520" cy="91440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TOR tape server modified to work with libctasched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traight Connector 64"/>
          <p:cNvSpPr/>
          <p:nvPr/>
        </p:nvSpPr>
        <p:spPr>
          <a:xfrm flipH="1">
            <a:off x="7657920" y="228600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olded Corner 66"/>
          <p:cNvSpPr/>
          <p:nvPr/>
        </p:nvSpPr>
        <p:spPr>
          <a:xfrm>
            <a:off x="152280" y="1504800"/>
            <a:ext cx="1494000" cy="106704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CTA business logic and data management code is in libctasched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traight Connector 68"/>
          <p:cNvSpPr/>
          <p:nvPr/>
        </p:nvSpPr>
        <p:spPr>
          <a:xfrm>
            <a:off x="685800" y="2689200"/>
            <a:ext cx="80028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olded Corner 72"/>
          <p:cNvSpPr/>
          <p:nvPr/>
        </p:nvSpPr>
        <p:spPr>
          <a:xfrm>
            <a:off x="4343400" y="4572000"/>
            <a:ext cx="1600200" cy="7621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roto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fil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traight Connector 78"/>
          <p:cNvSpPr/>
          <p:nvPr/>
        </p:nvSpPr>
        <p:spPr>
          <a:xfrm>
            <a:off x="4749840" y="4210200"/>
            <a:ext cx="276120" cy="361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1"/>
          <p:cNvSpPr/>
          <p:nvPr/>
        </p:nvSpPr>
        <p:spPr>
          <a:xfrm rot="18694800">
            <a:off x="6506280" y="47743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39"/>
          <p:cNvSpPr/>
          <p:nvPr/>
        </p:nvSpPr>
        <p:spPr>
          <a:xfrm rot="19366800">
            <a:off x="1912680" y="185112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ands/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53"/>
          <p:cNvSpPr/>
          <p:nvPr/>
        </p:nvSpPr>
        <p:spPr>
          <a:xfrm>
            <a:off x="8291520" y="3718080"/>
            <a:ext cx="693720" cy="6570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9487"/>
          <p:cNvSpPr/>
          <p:nvPr/>
        </p:nvSpPr>
        <p:spPr>
          <a:xfrm>
            <a:off x="8197920" y="3838680"/>
            <a:ext cx="691920" cy="6570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19490"/>
          <p:cNvGrpSpPr/>
          <p:nvPr/>
        </p:nvGrpSpPr>
        <p:grpSpPr>
          <a:xfrm>
            <a:off x="5791320" y="5981760"/>
            <a:ext cx="628560" cy="799920"/>
            <a:chOff x="5791320" y="5981760"/>
            <a:chExt cx="628560" cy="799920"/>
          </a:xfrm>
        </p:grpSpPr>
        <p:sp>
          <p:nvSpPr>
            <p:cNvPr id="563" name="Rectangle 19488"/>
            <p:cNvSpPr/>
            <p:nvPr/>
          </p:nvSpPr>
          <p:spPr>
            <a:xfrm>
              <a:off x="5791320" y="5981760"/>
              <a:ext cx="628560" cy="7999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19489"/>
            <p:cNvSpPr/>
            <p:nvPr/>
          </p:nvSpPr>
          <p:spPr>
            <a:xfrm>
              <a:off x="5873760" y="6305040"/>
              <a:ext cx="463680" cy="42300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blem dim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152280" y="106632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ak performance of CASTOR tape sustained over 2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3 million files, 25 PetaBytes pe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file size = 300 Mega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verage user request rate = 34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ak user request rate = 7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rent data rate of CASTOR is ≈ 5 times less than p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 PetaBytes pe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user request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50 Hz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0 Hz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65260461-3CDF-4A01-8E4F-48CBCA7E757C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STOR and C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TA will run alongside the current CAS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are tape file metadata (CASTOR ns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need to migrate the actual tap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options for co-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917C7DCB-2679-4C73-9A58-37AE21D9F052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Questions for D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mespac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ta movers and garbage collecto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323C2394-C496-4D3B-A132-C24999A6F6EF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amespac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chnical meeting is being orga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technolo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OS mg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STOR n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thing el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uper namespace for multiple tiers of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EOS and one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EOS and many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recovery strate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5154D016-F166-466A-A976-6631155CB45A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6248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ata movers and garbage collecto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we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SM - CA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recall – Is anybody asking for th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sted - EOS arch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n by power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rchive is a namespace tree within 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an freeze, archive, purge and retrieve arch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’re on your own - ATLAS and C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party copies between EOS and CA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we miss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archive from EOS to CASTOR / 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E2249F0E-65AF-4761-B476-DBEEA65FE5A1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08:51:15Z</dcterms:created>
  <dc:creator>rosy</dc:creator>
  <dc:description/>
  <dc:language>en-US</dc:language>
  <cp:lastModifiedBy>Steven Murray</cp:lastModifiedBy>
  <cp:lastPrinted>2015-10-23T07:25:15Z</cp:lastPrinted>
  <dcterms:modified xsi:type="dcterms:W3CDTF">2015-10-26T18:47:56Z</dcterms:modified>
  <cp:revision>112</cp:revision>
  <dc:subject/>
  <dc:title>Slide 1</dc:title>
</cp:coreProperties>
</file>