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dt" idx="1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1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 type="sldNum" idx="1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92BA-FED9-41EF-BE36-B955C6F39CD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1A170-5C36-4C94-A45A-A5843F79A2A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68EC-F123-4AA4-8F3F-09998963771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2B8C-8FC6-46A4-B3CE-07D6D5AB601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C188-68A1-4326-BD65-07E4D8692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7035-F42D-4253-8AF9-C9C8CFF557C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5B79-AFEB-4779-ACCF-A6688A7C43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D87C-7C6E-4FFE-A7ED-4E8FE5F47D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C389-FFD2-465B-A91C-3CA6E19F2E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779E-BC7C-470A-A473-4B6042B073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F96-D2C9-46D6-80B7-45930E6DF4B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82C7F-C349-402C-A210-FAA8B890780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7A7D8-28B4-4B80-BDD0-E2A8EEF47B0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CD60A-F71C-450E-8B0C-574B00A6265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295280" y="0"/>
            <a:ext cx="556272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7631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718880" y="106632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718880" y="3852360"/>
            <a:ext cx="427608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1914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54200" y="106632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1914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54200" y="3852360"/>
            <a:ext cx="282132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85F30797-09C5-419E-932D-4CE75BD17C97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8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41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41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ftr" idx="9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325D768-6F24-4472-9C9F-64ED6F40BAB8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1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462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ftr" idx="10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Presentation title - </a:t>
            </a:r>
            <a:fld id="{9AB546C2-364B-4058-9C87-E1CAC9BE56A8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2"/>
          </p:nvPr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489E4A17-4E93-4B74-914E-FEAF8774B9CB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Object 20"/>
          <p:cNvGraphicFramePr/>
          <p:nvPr/>
        </p:nvGraphicFramePr>
        <p:xfrm>
          <a:off x="0" y="0"/>
          <a:ext cx="1189080" cy="85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118908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Picture 7" descr="0804041_19_DSS.tif"/>
          <p:cNvPicPr/>
          <p:nvPr/>
        </p:nvPicPr>
        <p:blipFill>
          <a:blip r:embed="rId5"/>
          <a:srcRect l="26287" t="37486" r="43681" b="48775"/>
          <a:stretch/>
        </p:blipFill>
        <p:spPr>
          <a:xfrm>
            <a:off x="0" y="0"/>
            <a:ext cx="1219320" cy="838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8"/>
          <p:cNvSpPr/>
          <p:nvPr/>
        </p:nvSpPr>
        <p:spPr>
          <a:xfrm>
            <a:off x="0" y="-111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&amp; Storag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13"/>
          <p:cNvGrpSpPr/>
          <p:nvPr/>
        </p:nvGrpSpPr>
        <p:grpSpPr>
          <a:xfrm>
            <a:off x="1143000" y="0"/>
            <a:ext cx="8001000" cy="849240"/>
            <a:chOff x="1143000" y="0"/>
            <a:chExt cx="8001000" cy="849240"/>
          </a:xfrm>
        </p:grpSpPr>
        <p:pic>
          <p:nvPicPr>
            <p:cNvPr id="91" name="Picture 20" descr="banner-ITonly"/>
            <p:cNvPicPr/>
            <p:nvPr/>
          </p:nvPicPr>
          <p:blipFill>
            <a:blip r:embed="rId2"/>
            <a:stretch/>
          </p:blipFill>
          <p:spPr>
            <a:xfrm>
              <a:off x="1143000" y="0"/>
              <a:ext cx="8001000" cy="8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Title 1"/>
            <p:cNvSpPr/>
            <p:nvPr/>
          </p:nvSpPr>
          <p:spPr>
            <a:xfrm>
              <a:off x="1295280" y="0"/>
              <a:ext cx="5562720" cy="83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Data &amp; Storage Servic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Picture 20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3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7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96" name="Picture 18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9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4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ftr" idx="3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A4248455-2388-4B07-9C8D-D4246F1E6AD2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187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4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E9C179C3-A583-492A-993E-89678EA3465C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33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ftr" idx="5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39B5A039-460C-4044-98CB-FE317486FA8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279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ftr" idx="6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93C9BC7A-698F-492F-B1DB-B60169213829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25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7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0ACCC69A-DD79-43E9-8F69-C9FE29DAF1EF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0" descr="banner-ITonly"/>
          <p:cNvPicPr/>
          <p:nvPr/>
        </p:nvPicPr>
        <p:blipFill>
          <a:blip r:embed="rId2"/>
          <a:stretch/>
        </p:blipFill>
        <p:spPr>
          <a:xfrm>
            <a:off x="1143000" y="0"/>
            <a:ext cx="8001000" cy="8492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21" descr="CERNlogo-rgb"/>
          <p:cNvPicPr/>
          <p:nvPr/>
        </p:nvPicPr>
        <p:blipFill>
          <a:blip r:embed="rId3"/>
          <a:stretch/>
        </p:blipFill>
        <p:spPr>
          <a:xfrm>
            <a:off x="8458200" y="6172200"/>
            <a:ext cx="619200" cy="619200"/>
          </a:xfrm>
          <a:prstGeom prst="rect">
            <a:avLst/>
          </a:prstGeom>
          <a:ln w="0">
            <a:noFill/>
          </a:ln>
        </p:spPr>
      </p:pic>
      <p:sp>
        <p:nvSpPr>
          <p:cNvPr id="368" name="Text Box 22"/>
          <p:cNvSpPr/>
          <p:nvPr/>
        </p:nvSpPr>
        <p:spPr>
          <a:xfrm>
            <a:off x="0" y="6111720"/>
            <a:ext cx="1295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ERN IT Depart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CH-1211 Genève 2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ahoma"/>
              </a:rPr>
              <a:t>Switzer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www.cern.ch/i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26"/>
          <p:cNvSpPr/>
          <p:nvPr/>
        </p:nvSpPr>
        <p:spPr>
          <a:xfrm>
            <a:off x="0" y="5486400"/>
            <a:ext cx="1219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-76320" y="0"/>
            <a:ext cx="1371600" cy="6099120"/>
            <a:chOff x="-76320" y="0"/>
            <a:chExt cx="1371600" cy="6099120"/>
          </a:xfrm>
        </p:grpSpPr>
        <p:pic>
          <p:nvPicPr>
            <p:cNvPr id="371" name="Picture 10" descr="0804041_19_DSS.tif"/>
            <p:cNvPicPr/>
            <p:nvPr/>
          </p:nvPicPr>
          <p:blipFill>
            <a:blip r:embed="rId4"/>
            <a:srcRect l="26287" t="0" r="43681" b="0"/>
            <a:stretch/>
          </p:blipFill>
          <p:spPr>
            <a:xfrm>
              <a:off x="0" y="0"/>
              <a:ext cx="1219320" cy="60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11"/>
            <p:cNvSpPr/>
            <p:nvPr/>
          </p:nvSpPr>
          <p:spPr>
            <a:xfrm>
              <a:off x="-76320" y="68040"/>
              <a:ext cx="1371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ffffff"/>
                  </a:solidFill>
                  <a:latin typeface="Arial"/>
                </a:rPr>
                <a:t>DS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e282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ftr" idx="8"/>
          </p:nvPr>
        </p:nvSpPr>
        <p:spPr>
          <a:xfrm>
            <a:off x="190476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00529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Times New Roman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CTA - </a:t>
            </a:r>
            <a:fld id="{FD3AA6FD-67F6-430B-B62B-55CC05C6DE44}" type="slidenum">
              <a:rPr b="1" i="1" lang="en-US" sz="1400" spc="-1" strike="noStrike">
                <a:solidFill>
                  <a:srgbClr val="3861a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295280" y="1143000"/>
            <a:ext cx="784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CERN / CASTOR Tape Archive (CTA)</a:t>
            </a:r>
            <a:br>
              <a:rPr sz="3600"/>
            </a:br>
            <a:r>
              <a:rPr b="1" lang="en-US" sz="3600" spc="-1" strike="noStrike">
                <a:solidFill>
                  <a:srgbClr val="3861aa"/>
                </a:solidFill>
                <a:latin typeface="Arial"/>
              </a:rPr>
              <a:t>Motivations and contex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21337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861aa"/>
                </a:solidFill>
                <a:latin typeface="Arial"/>
              </a:rPr>
              <a:t>2015 Program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rve sli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serve slides beyond this 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F43E630D-FF6E-4468-8A80-D1C1901657BC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STOR tape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server with respect to receiving mount commands from the CASTOR drive scheduler (VDQ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CASTOR stagers from where it gets the lists of files to be trans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t is a TCP/IP client with respect to the remote file systems with which it transfers the contents of files to and from mem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uns on a standard PC connected to a tape drive and the tape library in which the drive is instal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trols the mounting, loading, positioning, unloading and un-mounting of the tape even in the event of hardware and software fail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nsfers data from remote file systems to memory to tape and vice versa.  Memory is used to smooth bursty disks transfers and to parallelise slow disk transf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mory is used to map the multi-stream approach of disk with the sequential one file after another format of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B998A412-F6B9-4C1B-BFB2-B656BB15FADB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pe schedu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oring the physical layout and capabilities of the tape 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nd drives are located in which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ich tapes are compatible with which dr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Keeping track of the current status of the tape dr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E or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Queuing user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ping tap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uting user files to user tape p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miting the number of tape 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inefficiency due to costly mounts/un-mou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e ware and tare on the tape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A1D8C72E-C98D-4EF4-BB7D-93C441DE8C6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ossible CASTOR improve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rge the tape drive scheduler and tape catalogue daem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ne daemon instead of tw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ingle tape resource datab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ve all drive scheduler and tape catalogue logic to PL/SQL proced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eues and prioritise tape write requests based on tape pools as opposed to tap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omically schedule of tapes and drives when writing to ta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rtbeat mechanism to identify unreachable tape servers and automatically stop scheduling th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-emptive scheduling to enable true background repack and tape verification 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pport libraries that contain drives with asymmetric read/write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place CUPV for tape authoris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stager/tapegateway should no longer control the fseq of individual write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tape server should simply report where files have been written (VID + fseq + block I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D785BA0-EBBD-4214-ABBE-4AB9F41FBBB2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CTA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third party copy engine for tape that prov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mple interface to t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ape resource schedu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TA has no disk storage and will not stage f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mote storage will provide adequate bandwidth for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 does not depend on Ora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will be a separate architectur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7A4FC7C-F760-49CF-873C-CAE3BC39230F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iv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1371240" y="1066320"/>
            <a:ext cx="75438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from the evolution of tape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ay from random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wards bulk archival and retrie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EOS with direct access to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of tape in one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 catalogue, queues, policies, scheduling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and consistent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scheduling decisions based on partial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and powerful platform for future improv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4f9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contained unit within the DSS tool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Footer Placeholder 3"/>
          <p:cNvSpPr/>
          <p:nvPr/>
        </p:nvSpPr>
        <p:spPr>
          <a:xfrm>
            <a:off x="1905120" y="6324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Presentation Title - </a:t>
            </a:r>
            <a:fld id="{BFCF19E7-EF3B-4B9A-92B9-CA0A68C263C1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7" name="Group 58"/>
          <p:cNvGrpSpPr/>
          <p:nvPr/>
        </p:nvGrpSpPr>
        <p:grpSpPr>
          <a:xfrm>
            <a:off x="5867280" y="5867280"/>
            <a:ext cx="628920" cy="800280"/>
            <a:chOff x="5867280" y="5867280"/>
            <a:chExt cx="628920" cy="800280"/>
          </a:xfrm>
        </p:grpSpPr>
        <p:sp>
          <p:nvSpPr>
            <p:cNvPr id="518" name="Rectangle 60"/>
            <p:cNvSpPr/>
            <p:nvPr/>
          </p:nvSpPr>
          <p:spPr>
            <a:xfrm>
              <a:off x="5867280" y="5867280"/>
              <a:ext cx="628920" cy="80028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63"/>
            <p:cNvSpPr/>
            <p:nvPr/>
          </p:nvSpPr>
          <p:spPr>
            <a:xfrm>
              <a:off x="5949720" y="6190920"/>
              <a:ext cx="464040" cy="42336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Freeform 54"/>
          <p:cNvSpPr/>
          <p:nvPr/>
        </p:nvSpPr>
        <p:spPr>
          <a:xfrm>
            <a:off x="8375760" y="3641760"/>
            <a:ext cx="691920" cy="65736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40"/>
          <p:cNvSpPr/>
          <p:nvPr/>
        </p:nvSpPr>
        <p:spPr>
          <a:xfrm>
            <a:off x="3962520" y="5791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26"/>
          <p:cNvSpPr/>
          <p:nvPr/>
        </p:nvSpPr>
        <p:spPr>
          <a:xfrm>
            <a:off x="6705720" y="268920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25"/>
          <p:cNvSpPr/>
          <p:nvPr/>
        </p:nvSpPr>
        <p:spPr>
          <a:xfrm>
            <a:off x="6629400" y="2765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24"/>
          <p:cNvSpPr/>
          <p:nvPr/>
        </p:nvSpPr>
        <p:spPr>
          <a:xfrm>
            <a:off x="1219320" y="28195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23"/>
          <p:cNvSpPr/>
          <p:nvPr/>
        </p:nvSpPr>
        <p:spPr>
          <a:xfrm>
            <a:off x="380880" y="4572000"/>
            <a:ext cx="175284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22"/>
          <p:cNvSpPr/>
          <p:nvPr/>
        </p:nvSpPr>
        <p:spPr>
          <a:xfrm>
            <a:off x="304920" y="4648320"/>
            <a:ext cx="17524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16"/>
          <p:cNvSpPr/>
          <p:nvPr/>
        </p:nvSpPr>
        <p:spPr>
          <a:xfrm>
            <a:off x="3124080" y="2362320"/>
            <a:ext cx="3276720" cy="1981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 data s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TA archit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6C5AD4BB-F110-4F6B-8585-3E6E9C3C99D6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3352680" y="289548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catalogu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3352680" y="3263760"/>
            <a:ext cx="129564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statu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6"/>
          <p:cNvSpPr/>
          <p:nvPr/>
        </p:nvSpPr>
        <p:spPr>
          <a:xfrm>
            <a:off x="4849920" y="289548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ardware layo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"/>
          <p:cNvSpPr/>
          <p:nvPr/>
        </p:nvSpPr>
        <p:spPr>
          <a:xfrm>
            <a:off x="3352680" y="4000680"/>
            <a:ext cx="129564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8"/>
          <p:cNvSpPr/>
          <p:nvPr/>
        </p:nvSpPr>
        <p:spPr>
          <a:xfrm>
            <a:off x="335448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pe p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9"/>
          <p:cNvSpPr/>
          <p:nvPr/>
        </p:nvSpPr>
        <p:spPr>
          <a:xfrm>
            <a:off x="4849920" y="4000680"/>
            <a:ext cx="1295280" cy="19044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unt polic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10"/>
          <p:cNvSpPr/>
          <p:nvPr/>
        </p:nvSpPr>
        <p:spPr>
          <a:xfrm>
            <a:off x="4849920" y="326376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rive capabili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15"/>
          <p:cNvSpPr/>
          <p:nvPr/>
        </p:nvSpPr>
        <p:spPr>
          <a:xfrm>
            <a:off x="4849920" y="3632040"/>
            <a:ext cx="1295280" cy="190800"/>
          </a:xfrm>
          <a:prstGeom prst="rect">
            <a:avLst/>
          </a:prstGeom>
          <a:gradFill rotWithShape="0">
            <a:gsLst>
              <a:gs pos="0">
                <a:srgbClr val="cfffff"/>
              </a:gs>
              <a:gs pos="100000">
                <a:srgbClr val="f0ffff"/>
              </a:gs>
            </a:gsLst>
            <a:lin ang="16200000"/>
          </a:gradFill>
          <a:ln w="9360">
            <a:solidFill>
              <a:srgbClr val="b6dcd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ou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7"/>
          <p:cNvSpPr/>
          <p:nvPr/>
        </p:nvSpPr>
        <p:spPr>
          <a:xfrm>
            <a:off x="228600" y="4724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-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8"/>
          <p:cNvSpPr/>
          <p:nvPr/>
        </p:nvSpPr>
        <p:spPr>
          <a:xfrm>
            <a:off x="1143000" y="28954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nt-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9"/>
          <p:cNvSpPr/>
          <p:nvPr/>
        </p:nvSpPr>
        <p:spPr>
          <a:xfrm>
            <a:off x="6553080" y="2879640"/>
            <a:ext cx="175284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8a8ea"/>
              </a:gs>
              <a:gs pos="100000">
                <a:srgbClr val="e8e8fa"/>
              </a:gs>
            </a:gsLst>
            <a:lin ang="16200000"/>
          </a:gradFill>
          <a:ln w="9360">
            <a:solidFill>
              <a:srgbClr val="2f2f9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20"/>
          <p:cNvSpPr/>
          <p:nvPr/>
        </p:nvSpPr>
        <p:spPr>
          <a:xfrm>
            <a:off x="3733920" y="990720"/>
            <a:ext cx="220968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CASTOR ns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ounded Rectangle 21"/>
          <p:cNvSpPr/>
          <p:nvPr/>
        </p:nvSpPr>
        <p:spPr>
          <a:xfrm>
            <a:off x="3894120" y="5867280"/>
            <a:ext cx="175248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3" name="Straight Arrow Connector 30"/>
          <p:cNvCxnSpPr/>
          <p:nvPr/>
        </p:nvCxnSpPr>
        <p:spPr>
          <a:xfrm>
            <a:off x="2362320" y="3886200"/>
            <a:ext cx="1581840" cy="1829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4" name="Straight Arrow Connector 33"/>
          <p:cNvCxnSpPr/>
          <p:nvPr/>
        </p:nvCxnSpPr>
        <p:spPr>
          <a:xfrm flipV="1">
            <a:off x="1218960" y="3885840"/>
            <a:ext cx="533880" cy="534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5" name="Straight Arrow Connector 36"/>
          <p:cNvCxnSpPr/>
          <p:nvPr/>
        </p:nvCxnSpPr>
        <p:spPr>
          <a:xfrm flipV="1">
            <a:off x="2057400" y="1504440"/>
            <a:ext cx="1612080" cy="1242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6" name="Straight Arrow Connector 38"/>
          <p:cNvCxnSpPr/>
          <p:nvPr/>
        </p:nvCxnSpPr>
        <p:spPr>
          <a:xfrm flipH="1" flipV="1">
            <a:off x="6008040" y="1504080"/>
            <a:ext cx="1421640" cy="11250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7" name="Straight Arrow Connector 41"/>
          <p:cNvCxnSpPr/>
          <p:nvPr/>
        </p:nvCxnSpPr>
        <p:spPr>
          <a:xfrm flipH="1">
            <a:off x="5790600" y="3886200"/>
            <a:ext cx="1639080" cy="1829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8" name="Straight Arrow Connector 51"/>
          <p:cNvCxnSpPr/>
          <p:nvPr/>
        </p:nvCxnSpPr>
        <p:spPr>
          <a:xfrm>
            <a:off x="2739960" y="3600000"/>
            <a:ext cx="53424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49" name="Straight Arrow Connector 55"/>
          <p:cNvCxnSpPr/>
          <p:nvPr/>
        </p:nvCxnSpPr>
        <p:spPr>
          <a:xfrm>
            <a:off x="6248160" y="3602160"/>
            <a:ext cx="53388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550" name="Rectangle 59"/>
          <p:cNvSpPr/>
          <p:nvPr/>
        </p:nvSpPr>
        <p:spPr>
          <a:xfrm>
            <a:off x="1371600" y="3505320"/>
            <a:ext cx="1295280" cy="19044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61"/>
          <p:cNvSpPr/>
          <p:nvPr/>
        </p:nvSpPr>
        <p:spPr>
          <a:xfrm>
            <a:off x="6832440" y="3508200"/>
            <a:ext cx="1295640" cy="1908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9360">
            <a:solidFill>
              <a:srgbClr val="29298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ibctaschedul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Folded Corner 62"/>
          <p:cNvSpPr/>
          <p:nvPr/>
        </p:nvSpPr>
        <p:spPr>
          <a:xfrm>
            <a:off x="7213680" y="1295280"/>
            <a:ext cx="1244520" cy="91440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TOR tape server modified to work with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64"/>
          <p:cNvSpPr/>
          <p:nvPr/>
        </p:nvSpPr>
        <p:spPr>
          <a:xfrm flipH="1">
            <a:off x="7657920" y="2286000"/>
            <a:ext cx="22860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Folded Corner 66"/>
          <p:cNvSpPr/>
          <p:nvPr/>
        </p:nvSpPr>
        <p:spPr>
          <a:xfrm>
            <a:off x="152280" y="1504800"/>
            <a:ext cx="1494000" cy="106704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f the CTA business logic and data management code is in libctasched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Straight Connector 68"/>
          <p:cNvSpPr/>
          <p:nvPr/>
        </p:nvSpPr>
        <p:spPr>
          <a:xfrm>
            <a:off x="685800" y="2689200"/>
            <a:ext cx="800280" cy="838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olded Corner 72"/>
          <p:cNvSpPr/>
          <p:nvPr/>
        </p:nvSpPr>
        <p:spPr>
          <a:xfrm>
            <a:off x="4343400" y="4572000"/>
            <a:ext cx="1600200" cy="762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proto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l fil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78"/>
          <p:cNvSpPr/>
          <p:nvPr/>
        </p:nvSpPr>
        <p:spPr>
          <a:xfrm>
            <a:off x="4749840" y="4210200"/>
            <a:ext cx="276120" cy="36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1"/>
          <p:cNvSpPr/>
          <p:nvPr/>
        </p:nvSpPr>
        <p:spPr>
          <a:xfrm rot="18694800">
            <a:off x="6506280" y="477432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9"/>
          <p:cNvSpPr/>
          <p:nvPr/>
        </p:nvSpPr>
        <p:spPr>
          <a:xfrm rot="19366800">
            <a:off x="1912680" y="185112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ands/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Freeform 53"/>
          <p:cNvSpPr/>
          <p:nvPr/>
        </p:nvSpPr>
        <p:spPr>
          <a:xfrm>
            <a:off x="8291520" y="3718080"/>
            <a:ext cx="6937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Freeform 19487"/>
          <p:cNvSpPr/>
          <p:nvPr/>
        </p:nvSpPr>
        <p:spPr>
          <a:xfrm>
            <a:off x="8197920" y="3838680"/>
            <a:ext cx="691920" cy="65700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9490"/>
          <p:cNvGrpSpPr/>
          <p:nvPr/>
        </p:nvGrpSpPr>
        <p:grpSpPr>
          <a:xfrm>
            <a:off x="5791320" y="5981760"/>
            <a:ext cx="628560" cy="799920"/>
            <a:chOff x="5791320" y="5981760"/>
            <a:chExt cx="628560" cy="799920"/>
          </a:xfrm>
        </p:grpSpPr>
        <p:sp>
          <p:nvSpPr>
            <p:cNvPr id="563" name="Rectangle 19488"/>
            <p:cNvSpPr/>
            <p:nvPr/>
          </p:nvSpPr>
          <p:spPr>
            <a:xfrm>
              <a:off x="5791320" y="5981760"/>
              <a:ext cx="628560" cy="799920"/>
            </a:xfrm>
            <a:prstGeom prst="rect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Oval 19489"/>
            <p:cNvSpPr/>
            <p:nvPr/>
          </p:nvSpPr>
          <p:spPr>
            <a:xfrm>
              <a:off x="5873760" y="6305040"/>
              <a:ext cx="463680" cy="423000"/>
            </a:xfrm>
            <a:prstGeom prst="ellipse">
              <a:avLst/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blem dimen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152280" y="10663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ak performance of CASTOR tape sustained over 2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83 million files, 25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erage file size = 300 Mega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verage user request rate = 34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ak user request rate = 70 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rrent data rate of CASTOR is ≈ 5 times less than p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6 PetaBytes per mo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rget user reques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50 Hz a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00 Hz p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9D59580A-E312-4C53-A0F2-7E46D224B774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STOR and C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228600" y="10663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TA will run alongside the current CAS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are tape file metadata (CASTOR ns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 need to migrate the actual tap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options for co-ex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3B148497-956E-420C-A326-47C8A721220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Questions for D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amespac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movers and garbage collecto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D319E20F-2A58-449F-BDE5-6C231E064B90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Namespac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chnical meeting is being orga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techn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OS m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STOR n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omething el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uper namespace for multiple tiers of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one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y EOS and many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recovery strate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27455297-C1D7-42D9-91BE-BF3EA959D2D3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294920" y="0"/>
            <a:ext cx="62485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ata movers and garbage collector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228600" y="83772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we ha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M - CA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recall – Is anybody asking for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matic garbag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sted - EOS arch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ven by power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 archive is a namespace tree with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an freeze, archive, purge and retrieve arch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’re on your own - ATLAS and C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party copies between EOS and CA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861a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we mis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861a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ic archive from EOS to CASTOR / C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ooter Placeholder 3"/>
          <p:cNvSpPr/>
          <p:nvPr/>
        </p:nvSpPr>
        <p:spPr>
          <a:xfrm>
            <a:off x="2514600" y="6553080"/>
            <a:ext cx="647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529e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3861aa"/>
                </a:solidFill>
                <a:latin typeface="Arial"/>
              </a:rPr>
              <a:t>CTA - </a:t>
            </a:r>
            <a:fld id="{09BBB2A2-3205-4FBC-80E5-6E5A2E292D3D}" type="slidenum">
              <a:rPr b="1" i="1" lang="en-US" sz="1400" spc="-1" strike="noStrike">
                <a:solidFill>
                  <a:srgbClr val="3861a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5T08:51:15Z</dcterms:created>
  <dc:creator>rosy</dc:creator>
  <dc:description/>
  <dc:language>en-US</dc:language>
  <cp:lastModifiedBy>Steven Murray</cp:lastModifiedBy>
  <cp:lastPrinted>2015-10-23T07:25:15Z</cp:lastPrinted>
  <dcterms:modified xsi:type="dcterms:W3CDTF">2015-10-26T18:47:56Z</dcterms:modified>
  <cp:revision>112</cp:revision>
  <dc:subject/>
  <dc:title>Slide 1</dc:title>
</cp:coreProperties>
</file>